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8AC-7769-499B-B0B2-38F4AE2A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9F3-81E4-4060-B1B5-D913DCED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A89-5281-413F-ABCE-2E77075F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FDF-16E9-46B9-A125-7D7D5AAE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E0B2-B2E2-403B-84DA-0628A259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8E26-8FD9-4C7A-A128-B5D142F4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5ABE-3A3E-4F1A-A38D-8FA447AC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E000-9AA7-45FF-9714-06CD96AA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FA80-403C-4FC5-9AE8-DB4161F2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5C4C-A10D-41CF-B21D-78264285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2159-910F-4783-B261-41676B32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467-C1C3-44A7-A0CA-6D1B9FCF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02E4-F740-43D7-B775-0BF33886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3DE1-B427-46CB-BEFC-4F73A879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700C-4B98-4C02-94A3-C31C4615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2A98-ECB3-4275-971B-7281F030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9C7A-99E8-4676-8F8D-BE911ECA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80D-9EFD-4EF5-A25C-C9843BE7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AED-3DD1-4F24-8B8D-05F2A6C2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CA8-3974-4B2C-A6F5-08EE8D77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91B-0847-4283-9B81-A4F7BE94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774-934B-459D-BC67-8C5E320B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1A1-F264-4559-856D-D36FFA0E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CDB-D14D-4FD3-9138-EADFDF3D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2D2F-B16E-42EB-8E9C-04A9DF41F70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450D-8BE3-4C3E-8532-EA4B63FB53F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V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76720" y="3284640"/>
            <a:ext cx="5627520" cy="35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GNU vs Recursos 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tes en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17604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$ vs Recursos G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istas de corre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Sopor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ctualizaciones productos de segur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anuales “tecnico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on “avanzad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Knowledge 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gunas UR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cert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securiteam.com (bugtr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net-security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ideahamster.com (politic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eworder.box.sk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 (IETF), gener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S 7799 (UK Standard), teoric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pen Source Security Testing Methodology Manual (OSSTMM) (ideahamster.com), auditor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reaking into computer Networks from the Internet (sensepost.com), auditoria/hack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illos de hacking comercia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erramientas “click and go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oros públicos de “hackers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ser un hacker en 21 dia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os comerciales de productos concret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6640"/>
            <a:ext cx="367200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cc"/>
                </a:solidFill>
                <a:latin typeface="Arial Narrow"/>
              </a:rPr>
              <a:t>FiN</a:t>
            </a:r>
            <a:br>
              <a:rPr sz="9600"/>
            </a:br>
            <a:r>
              <a:rPr b="1" lang="es-ES" sz="1800" spc="-1" strike="noStrike">
                <a:solidFill>
                  <a:srgbClr val="ffffcc"/>
                </a:solidFill>
                <a:latin typeface="Arial Narrow"/>
              </a:rPr>
              <a:t>Version 1.0 Marzo/2002</a:t>
            </a:r>
            <a:endParaRPr b="1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1484280"/>
          <a:ext cx="4897440" cy="46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4897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4Z</dcterms:modified>
  <cp:revision>34</cp:revision>
  <dc:subject/>
  <dc:title>Políticas de Seguridad en entornos GNU</dc:title>
</cp:coreProperties>
</file>