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C02-A41B-4690-AFD0-EAC65AFD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696-81A2-4A32-817C-D0430B4D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021-058A-46BA-95D1-9A7A8556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166-9A5A-440E-9975-A3A76370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D524-ABC9-4A27-AB64-F7B3F36D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9956-2A35-47C2-8602-6739209E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758A-DBD3-4CC3-9AE2-56779604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9D63-F85D-4B0A-A89F-5BD7E712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0CD6-CFB5-4D09-BA7D-ACD2C3B7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0B7D-969D-43E5-A80E-60C97A11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300A-F538-4A6D-A575-E0E24133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C60-39D0-4CE2-B0A3-D97109B4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8D42-0C95-4E94-9131-0E80BD9E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8358-ABEF-4389-A3B3-F5B4AE22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F3D0-02F6-45E9-9D76-DD2A1748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FF64-7C3D-4FC2-95F7-BC7CCEE1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AE03-D6C7-46DE-9EC3-08C412A5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9FC-F565-4843-AC9C-1304B00F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751-6FC2-4F53-84A1-9ACF7A10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9EA-86AB-489A-8D75-FD6A2E19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AEC-3C83-4279-B834-B3E1C86F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124-9BE9-4B7E-A946-DB911B0B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067-1FCA-41E1-A032-E97EA2E5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537-6AFA-49BF-A0A1-BE9E007A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1493-4EA5-41A1-B6A0-F5C4AE5B427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CB83-1468-4BDC-B137-19584871ABD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V - Tema D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en GNU/Linu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294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 de auditoria.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004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pu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NMA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CG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GI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Whis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i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atapool (D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INT, Messala, RvScan, Sara, landguard  (A.V.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1962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con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roducción a una audi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SS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ne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ditoria de DoS y otras inci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blan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análisis y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: Calidad, confidencialidad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tras: Fisicas, social, basura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acking etic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étodo vs Conoci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, cut and p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Fo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mon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lugi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72120" y="1476360"/>
            <a:ext cx="397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canning/N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71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i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2625840"/>
            <a:ext cx="4643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 go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5435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6Z</dcterms:modified>
  <cp:revision>36</cp:revision>
  <dc:subject/>
  <dc:title>Políticas de Seguridad en entornos GNU</dc:title>
</cp:coreProperties>
</file>